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809-C43A-4F76-B461-839BCF1F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526-D689-4F28-A9CF-000F5D7D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EB3-C36D-4539-B214-6A840C27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956-0949-4537-BEAA-0325A0B7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6489-E87F-49ED-956B-B7FA2AE9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FCA7-A017-48C9-A9B1-2BBEA14A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28BD-C624-402A-84DB-98B7C0E8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7FEE-1087-49E6-8062-49915D22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6501-1401-4BE8-ABFB-38173013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EE8E-C4B1-4A06-B901-887B3010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6CB1-A908-4E0D-AE72-EE16085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CA4-B6C9-4433-B607-46C7EDB8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F506-544C-498E-99CE-A15FE9B7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F815-7792-4625-B4E1-33CDF8D4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23FE-9E7B-413D-A4F8-87E7731F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59B1-B455-4DF6-92A7-D8991F0A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BEBA-0AEC-4B6C-B197-E71E555E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BBF-0432-4C70-9C90-0E975D9B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9A4-1C79-48BE-B94A-754096B7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42D-89AA-4494-A3F8-0891AC18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A2A-3B98-4C37-8DDA-9A6DD6F3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888-74DB-4955-8D6F-A34047F2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D45-13D8-46B4-B991-084DD61B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46A-D650-406C-A269-FAAC75FC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2090-6A6D-48F9-9B9A-B2EC48BEB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D805-B1D0-4234-B432-7BAC72669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lejandrofol.wikispaces.com/" TargetMode="External"/><Relationship Id="rId2" Type="http://schemas.openxmlformats.org/officeDocument/2006/relationships/hyperlink" Target="http://alejandrofol.wikispaces.com/" TargetMode="External"/><Relationship Id="rId3" Type="http://schemas.openxmlformats.org/officeDocument/2006/relationships/hyperlink" Target="http://alejandrofol.wikispaces.com/" TargetMode="External"/><Relationship Id="rId4" Type="http://schemas.openxmlformats.org/officeDocument/2006/relationships/hyperlink" Target="http://alejandrofol.wikispaces.com/" TargetMode="External"/><Relationship Id="rId5" Type="http://schemas.openxmlformats.org/officeDocument/2006/relationships/hyperlink" Target="http://alejandrofol.wikispaces.com/" TargetMode="External"/><Relationship Id="rId6" Type="http://schemas.openxmlformats.org/officeDocument/2006/relationships/hyperlink" Target="http://alejandrofol.wikispaces.com/" TargetMode="External"/><Relationship Id="rId7" Type="http://schemas.openxmlformats.org/officeDocument/2006/relationships/hyperlink" Target="http://alejandrofol.wikispaces.com/" TargetMode="External"/><Relationship Id="rId8" Type="http://schemas.openxmlformats.org/officeDocument/2006/relationships/hyperlink" Target="http://isabelgonzalezagcp.wikispaces.com/" TargetMode="External"/><Relationship Id="rId9" Type="http://schemas.openxmlformats.org/officeDocument/2006/relationships/hyperlink" Target="http://isabelgonzalezagcp.wikispaces.com/" TargetMode="External"/><Relationship Id="rId10" Type="http://schemas.openxmlformats.org/officeDocument/2006/relationships/hyperlink" Target="http://isabelgonzalezagcp.wikispaces.com/" TargetMode="External"/><Relationship Id="rId11" Type="http://schemas.openxmlformats.org/officeDocument/2006/relationships/hyperlink" Target="http://isabelgonzalezagcp.wikispaces.com/" TargetMode="External"/><Relationship Id="rId12" Type="http://schemas.openxmlformats.org/officeDocument/2006/relationships/hyperlink" Target="http://isabelgonzalezagcp.wikispaces.com/" TargetMode="External"/><Relationship Id="rId13" Type="http://schemas.openxmlformats.org/officeDocument/2006/relationships/hyperlink" Target="http://isabelgonzalezagcp.wikispaces.com/" TargetMode="External"/><Relationship Id="rId14" Type="http://schemas.openxmlformats.org/officeDocument/2006/relationships/hyperlink" Target="http://isabelgonzalezagcp.wikispaces.com/" TargetMode="External"/><Relationship Id="rId15" Type="http://schemas.openxmlformats.org/officeDocument/2006/relationships/hyperlink" Target="http://ret.wikispaces.com/" TargetMode="External"/><Relationship Id="rId16" Type="http://schemas.openxmlformats.org/officeDocument/2006/relationships/hyperlink" Target="http://ret.wikispaces.com/" TargetMode="External"/><Relationship Id="rId17" Type="http://schemas.openxmlformats.org/officeDocument/2006/relationships/hyperlink" Target="http://ret.wikispaces.com/" TargetMode="External"/><Relationship Id="rId18" Type="http://schemas.openxmlformats.org/officeDocument/2006/relationships/hyperlink" Target="http://ret.wikispaces.com/" TargetMode="External"/><Relationship Id="rId19" Type="http://schemas.openxmlformats.org/officeDocument/2006/relationships/hyperlink" Target="http://ret.wikispaces.com/" TargetMode="External"/><Relationship Id="rId20" Type="http://schemas.openxmlformats.org/officeDocument/2006/relationships/hyperlink" Target="http://ret.wikispaces.com/" TargetMode="External"/><Relationship Id="rId21" Type="http://schemas.openxmlformats.org/officeDocument/2006/relationships/hyperlink" Target="http://ret.wikispaces.com/" TargetMode="External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pis.wikispaces.com/" TargetMode="External"/><Relationship Id="rId2" Type="http://schemas.openxmlformats.org/officeDocument/2006/relationships/hyperlink" Target="http://epis.wikispaces.com/" TargetMode="External"/><Relationship Id="rId3" Type="http://schemas.openxmlformats.org/officeDocument/2006/relationships/hyperlink" Target="http://epis.wikispaces.com/" TargetMode="External"/><Relationship Id="rId4" Type="http://schemas.openxmlformats.org/officeDocument/2006/relationships/hyperlink" Target="http://epis.wikispaces.com/" TargetMode="External"/><Relationship Id="rId5" Type="http://schemas.openxmlformats.org/officeDocument/2006/relationships/hyperlink" Target="http://epis.wikispaces.com/" TargetMode="External"/><Relationship Id="rId6" Type="http://schemas.openxmlformats.org/officeDocument/2006/relationships/hyperlink" Target="http://epis.wikispaces.com/" TargetMode="External"/><Relationship Id="rId7" Type="http://schemas.openxmlformats.org/officeDocument/2006/relationships/hyperlink" Target="http://epis.wikispaces.com/" TargetMode="External"/><Relationship Id="rId8" Type="http://schemas.openxmlformats.org/officeDocument/2006/relationships/hyperlink" Target="http://epis.wikispaces.com/equipos+de+protecci&#243;n+individual" TargetMode="External"/><Relationship Id="rId9" Type="http://schemas.openxmlformats.org/officeDocument/2006/relationships/hyperlink" Target="http://epis.wikispaces.com/EPI" TargetMode="External"/><Relationship Id="rId10" Type="http://schemas.openxmlformats.org/officeDocument/2006/relationships/hyperlink" Target="http://epis.wikispaces.com/Seguridad+en+las+instalaciones+de+telecomunicaci&#243;n+e+inform&#225;tica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s.wikipedia.org/wiki/Lengua_hawaiana" TargetMode="External"/><Relationship Id="rId2" Type="http://schemas.openxmlformats.org/officeDocument/2006/relationships/hyperlink" Target="http://es.wikipedia.org/wiki/Sitio_web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17120" y="2362320"/>
            <a:ext cx="415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Wik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plicación didác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55760" y="727200"/>
            <a:ext cx="7483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WIKISPACES PARA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ttp://www.wikispaces.com/site/for/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228600"/>
            <a:ext cx="7924680" cy="64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2222"/>
                </a:solidFill>
                <a:latin typeface="Lucida Sans Unicode"/>
              </a:rPr>
              <a:t>EXPERIENCIAS EN FORMACIÓN PROFESIONAL   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2"/>
              </a:rPr>
              <a:t>alejandrofol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3"/>
              </a:rPr>
              <a:t>.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4"/>
              </a:rPr>
              <a:t>wikispaces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5"/>
              </a:rPr>
              <a:t>.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6"/>
              </a:rPr>
              <a:t>com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7"/>
              </a:rPr>
              <a:t>/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 wiki de ayuda a los alumnos que cursen el módulo de FOL.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astantes contenidos publicados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: unidades y documentos (cartas, entrevistas de trabajo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Enlace a wikis para grupos de cl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8"/>
              </a:rPr>
              <a:t>http://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9"/>
              </a:rPr>
              <a:t>isabelgonzalezagcp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0"/>
              </a:rPr>
              <a:t>.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1"/>
              </a:rPr>
              <a:t>wikispaces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2"/>
              </a:rPr>
              <a:t>.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3"/>
              </a:rPr>
              <a:t>com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4"/>
              </a:rPr>
              <a:t>/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 Creación de un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mpresa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, Isabel González profesora de F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5"/>
              </a:rPr>
              <a:t>http://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6"/>
              </a:rPr>
              <a:t>ret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7"/>
              </a:rPr>
              <a:t>.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8"/>
              </a:rPr>
              <a:t>wikispaces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9"/>
              </a:rPr>
              <a:t>.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20"/>
              </a:rPr>
              <a:t>com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21"/>
              </a:rPr>
              <a:t>/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 Proyecto de utilización del wiki para el desarrollo de la materia de Relaciones en el Entorno de Trabajo (RET) en ciclos formativos.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Trabajos colaborativos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 de alumnos en blogs y wik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6680" y="380880"/>
            <a:ext cx="8077320" cy="69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EXPERIENCIAS EN FORMACIÓN PROFESIONAL    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"/>
              </a:rPr>
              <a:t>http://</a:t>
            </a:r>
            <a:r>
              <a:rPr b="0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2"/>
              </a:rPr>
              <a:t>epis</a:t>
            </a:r>
            <a:r>
              <a:rPr b="0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3"/>
              </a:rPr>
              <a:t>.</a:t>
            </a:r>
            <a:r>
              <a:rPr b="0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4"/>
              </a:rPr>
              <a:t>wikispaces</a:t>
            </a:r>
            <a:r>
              <a:rPr b="0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5"/>
              </a:rPr>
              <a:t>.</a:t>
            </a:r>
            <a:r>
              <a:rPr b="0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6"/>
              </a:rPr>
              <a:t>com</a:t>
            </a:r>
            <a:r>
              <a:rPr b="0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7"/>
              </a:rPr>
              <a:t>/</a:t>
            </a: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 Este Wiki está planteado como un espacio donde se organizarán y crearán los contenidos y material necesario para estudiar "Los </a:t>
            </a:r>
            <a:r>
              <a:rPr b="1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8"/>
              </a:rPr>
              <a:t>equipos de protección individual</a:t>
            </a: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1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9"/>
              </a:rPr>
              <a:t>EPI</a:t>
            </a: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´s)", encuadrándolos dentro del Modulo "</a:t>
            </a:r>
            <a:r>
              <a:rPr b="1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0"/>
              </a:rPr>
              <a:t>Seguridad en las instalaciones de telecomunicación e informática</a:t>
            </a: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" del Ciclo formativo SISTEMAS DE TELECOMUNICACIONES E INFORMÁTI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http://proyecto-e.wikispaces.com/Inicio</a:t>
            </a: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 Proyectos empresariales de los alumnos del Ciclo Formativo de Grado Superior de Administración y Finanzas.IES Luis de Morales. Arroyo de la Luz (Cáceres). Profesor</a:t>
            </a: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Juan Pablo Medina de la Cruz</a:t>
            </a: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http://orientacionyempleo.wikispaces.com/ Sitio destinado a recoger información y recursos para la orientación e insercción profesional de l@s alumn@s del </a:t>
            </a: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IES Laguna de Joatzel</a:t>
            </a: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. Profesora Lourdes Barros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eb 2.0 : La nueva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net abandona su marcada unidireccionalidad y se orientan más a facilitar la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áxima interacción entre los usuari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 Blog     Youtub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n </a:t>
            </a:r>
            <a:r>
              <a:rPr b="1" i="1" lang="es-ES" sz="2000" spc="-1" strike="noStrike">
                <a:solidFill>
                  <a:srgbClr val="3366cc"/>
                </a:solidFill>
                <a:latin typeface="Arial"/>
              </a:rPr>
              <a:t>expresarse y opinar, buscar y recibir información de interés, colaborar y crear conocimiento, comparti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lataforma de trabajo es la propia página web (no es necesario tener instalado un software cliente en el orden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Un wiki (o una wiki) (del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hawaiano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wiki wiki, «rápido») es un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sitio web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colaborativo que puede ser editado por vari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Diferencias entre un blog y un wiki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do por ent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ción cro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1752480"/>
            <a:ext cx="3429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Wik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do por pág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rácter más dinámico,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ción in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os educa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de el punto de vista del doc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contenidos teóricos de la materia para consulta por parte de los alumno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actividades de 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ar en un proyecto común con otros do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a antología de textos de consul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 listado de recursos on-line (para el alumnado o para otros doc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Usos educa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sde el punto de vista del alumn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lizar trabajos de manera colaborativa sobre cualquier tipo text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sentar el contenido de un trabajo de investigación (contenido f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abor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os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u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66cc"/>
                </a:solidFill>
                <a:latin typeface="Arial"/>
              </a:rPr>
              <a:t>MODELOS DIDÁCTICO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793440"/>
            <a:ext cx="8077320" cy="59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Blog diario de clase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da día un grupo resume lo que se ha hecho en clase. El profesor lo revisa y valora. Útil para alumnos que no han asistido a clase, repasar temas, mostrar a las familias lo que se hace. Incluy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ejores trabajos de la cl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l profesor que los alumnos resolver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uestas para comentar o debatir un artículo, una noticia, una foto, un víde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olver una adivinanza o problema de múltiples solu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día un alumno escribe un fragmento más de una novela o cu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Trabajos colaborativos con wi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iki del periódico escol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los lectores podrán dejar aportaci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eb del centro docente,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con enlace a los wikis de profesores y a los wikis diario de clase (las familias pueden dejar comen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ERE MARQUES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09480"/>
            <a:ext cx="762012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unas razones para us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s permite construir de manera fácil y colaborativa, espacios en Internet tan simples o complejos como necesitemos sin tener conocimientos de diseño de páginas Web. Su facilidad de uso es increíble, una página se crea en cuestión de pocos minutos siendo inmediata la obtención y visualización de resul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sibilidad de incluir con gran facilidad todo tipo de elementos multimedia  (audio. imágenes, calendarios, vídeos, presentaciones, animaciones,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istema operativo no importa sabiendo manejar cualquier navegador   construyo mi espacio , trabajamos directamente sobre el servidor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cesidad de usar programas de F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Wikispaces-logo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296064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66680" y="1143000"/>
            <a:ext cx="7620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stión de archivos es transparente para el usuario ,no hay que estar pendiente de rutas absolutas ni relativas, ni de recrear la estructura de directorios en el servidor a semejanza de la de nuestro disco duro como hacemos en el diseño Web tradi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plataforma segura. Se pueden crear distintos permisos de acceso a zonas y páginas. Permite seguir los cambios vía 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ibilidad de hacer una copia de seguridad del contenido del wiki y de todos los archivos que subamos al mismo ( 2 Gigas de espac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Wikispaces-logo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29606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1:36:52Z</dcterms:created>
  <dc:creator>cpr</dc:creator>
  <dc:description/>
  <dc:language>en-US</dc:language>
  <cp:lastModifiedBy>cpr</cp:lastModifiedBy>
  <dcterms:modified xsi:type="dcterms:W3CDTF">2009-03-26T12:16:40Z</dcterms:modified>
  <cp:revision>12</cp:revision>
  <dc:subject/>
  <dc:title>Presentación de PowerPoint</dc:title>
</cp:coreProperties>
</file>